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5A6-55BB-47A4-AAD8-278FDB02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659-09FC-4F6F-8EF5-191C770C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40C-24AB-4106-8716-1574B762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2CC-B159-469A-8460-1353EBCE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782-7C96-460A-849E-9AB2EA46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BB4-A8A2-4978-84EE-7F254093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9D2-205F-40AC-A12F-38141BF4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F95-2299-49C9-A850-206AB0DE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FEB-8D14-480A-B42F-BDDE3499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718-E1EC-4EFA-A65C-AED51B6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6D2-2EE5-486F-9328-07D89255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6B9-9AF4-4868-8556-EA1CB31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979F-5D36-48CF-943F-BC82831CC61B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8T06:45:27Z</dcterms:modified>
  <cp:revision>173</cp:revision>
  <dc:subject/>
  <dc:title>PowerPoint</dc:title>
</cp:coreProperties>
</file>